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8F7-EA42-4464-B65E-2697A444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C73-F946-40D1-A55C-48C5A1A4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20C-42AB-4B64-93F4-3C9E3F09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128-0866-4D68-94B0-A6EAC00C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3DAD-3728-4055-8348-2628E6B4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38D6-AABD-46BB-82F0-6BE0D69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4B47-BA23-4B41-A21A-EEA6605B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824-B0E4-4F6F-80FA-F2C33579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4D4A-B99B-4C8E-A12F-71496063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417F-28F6-492F-876E-2351C5ED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F19D-62B6-4440-B73E-B795BF46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2B9-C108-4787-A28F-73F4EBCB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D2CC-6519-4772-854C-26F02815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CFBC-7A76-4B27-B167-AAFC0924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D2A4-09ED-45E8-A323-9ADB8422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6999-D83B-4AEB-9650-B7D62DA0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9B17-EF95-44EA-AD55-5BB3743C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9DD94-C2C6-4E82-B465-53A045BC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4AB04-5C3C-4D0E-8B7F-99216AD0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2F0D4-FB5F-4B87-ADE8-A10CCDD5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EEE1F-F27E-4A4B-986C-9378DA50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CAAF3-166F-4A59-A8F7-2FDE11D7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624-66E2-4640-956E-558D3B01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393DA-7601-4FC1-BFFE-DC952D8E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04BFC-7A74-4042-96AC-A032CE2E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9EBF4-2774-4040-A083-C66E7F7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C3C08-15A5-486D-92EA-A0740AC9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672F7-1945-46F8-812F-1CCC5123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F1960-DFBA-4C55-99B8-E8F539AA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88612-7C68-4B65-8C31-E0F7A93E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CBD4-ACEF-4294-BD1F-E2E3099F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1466-3167-41D3-B8E9-9D6DF808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AB979-0BC2-41A2-A692-BA94E262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1E7-A562-49B9-814A-A7F148AD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1667-F9F1-4B9C-9F61-B7F32359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287D-9D34-44EF-9379-621B776B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167A-AFC5-4AA2-B5B5-306A11A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D76E-044F-4947-8E77-05C86E82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A9DE0-56D9-42A7-9C49-217BB39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E06F-BA86-464D-BA59-C401010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CA90-6E96-4153-865F-D4EAD432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EBE40-876F-49DE-BA0F-73000C49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AB35-E98B-40B2-B0EC-C9D3C49D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AA3-2FCC-4493-98D0-55A6E976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7ED-0626-44E1-A814-1D11A2FF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33A-882A-416B-A3F2-B39C7A24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3D7-1BB4-4C62-9156-8E187F6C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26D-90B3-4617-BD00-6B794F4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0c00"/>
            </a:gs>
            <a:gs pos="100000">
              <a:srgbClr val="9679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5D90-9B61-487E-9129-D7A359CB07F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0c00"/>
            </a:gs>
            <a:gs pos="100000">
              <a:srgbClr val="9679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FBBA-FC26-4866-9D36-E37EAEEC3595}" type="slidenum">
              <a:rPr b="0" lang="ru-RU" sz="2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0c00"/>
            </a:gs>
            <a:gs pos="100000">
              <a:srgbClr val="9679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BFF9-680A-43B4-B20A-16099FFE3C0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0c00"/>
            </a:gs>
            <a:gs pos="100000">
              <a:srgbClr val="9679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ffff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E208-05A6-4B87-8BCB-AC26A40F277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-club.ru/literature/index.asp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dec9"/>
                </a:solidFill>
                <a:latin typeface="Arial"/>
              </a:rPr>
              <a:t>Совершенствование педагогического мастерства учителей гимназии через самообразовательную деятельность</a:t>
            </a:r>
            <a:endParaRPr b="0" lang="en-US" sz="36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овершенствование педагогического мастерства учителей школы через самообразовательную деятельность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6" name="Picture 3" descr="C:\Documents and Settings\Варанкина\Мои документы\картинки\школьная\02d9e7a4b823.png"/>
          <p:cNvPicPr/>
          <p:nvPr/>
        </p:nvPicPr>
        <p:blipFill>
          <a:blip r:embed="rId1"/>
          <a:stretch/>
        </p:blipFill>
        <p:spPr>
          <a:xfrm>
            <a:off x="5357880" y="3429000"/>
            <a:ext cx="3786120" cy="3639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54612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50920" y="429264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41080" y="440532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020/2021 учебный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1" descr=""/>
          <p:cNvPicPr/>
          <p:nvPr/>
        </p:nvPicPr>
        <p:blipFill>
          <a:blip r:embed="rId1"/>
          <a:stretch/>
        </p:blipFill>
        <p:spPr>
          <a:xfrm>
            <a:off x="6480" y="262080"/>
            <a:ext cx="8783640" cy="6383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young_librarian_stand_a_ha"/>
          <p:cNvPicPr/>
          <p:nvPr/>
        </p:nvPicPr>
        <p:blipFill>
          <a:blip r:embed="rId2"/>
          <a:stretch/>
        </p:blipFill>
        <p:spPr>
          <a:xfrm>
            <a:off x="7572240" y="4802040"/>
            <a:ext cx="15717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rebuchet MS"/>
              </a:rPr>
              <a:t>Направления самообразования:</a:t>
            </a: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ессиональное (предмет преподавания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олого-педагогическое (ориентированное на учеников и родителей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сихологическое (имидж, общение, искусство влияния, лидерские качества и др.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ическое (педагогические технологии, формы, методы и приемы обучения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овое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стетическое (гуманитарное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рическое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странные языки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тическое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онно-коммуникативные технологии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храна здоровья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есы и хобби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43" name="Рисунок 3" descr="Библиоте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3500280"/>
            <a:ext cx="33577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-109440" y="285840"/>
            <a:ext cx="8540640" cy="675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Documents and Settings\Варанкина\Мои документы\оформление\2dfab92a244c.jpg"/>
          <p:cNvPicPr/>
          <p:nvPr/>
        </p:nvPicPr>
        <p:blipFill>
          <a:blip r:embed="rId2"/>
          <a:stretch/>
        </p:blipFill>
        <p:spPr>
          <a:xfrm>
            <a:off x="5857920" y="928800"/>
            <a:ext cx="307188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rebuchet MS"/>
              </a:rPr>
              <a:t>Составляющие </a:t>
            </a:r>
            <a:br>
              <a:rPr sz="3600"/>
            </a:br>
            <a:r>
              <a:rPr b="1" lang="ru-RU" sz="3600" spc="-1" strike="noStrike">
                <a:solidFill>
                  <a:srgbClr val="00ffff"/>
                </a:solidFill>
                <a:latin typeface="Trebuchet MS"/>
              </a:rPr>
              <a:t>процесса</a:t>
            </a:r>
            <a:r>
              <a:rPr b="1" lang="ru-RU" sz="4000" spc="-1" strike="noStrike">
                <a:solidFill>
                  <a:srgbClr val="00ffff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00ffff"/>
                </a:solidFill>
                <a:latin typeface="Trebuchet MS"/>
              </a:rPr>
              <a:t>самообразования:</a:t>
            </a:r>
            <a:endParaRPr b="0" lang="en-US" sz="36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Изучать и внедрять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новые педагогические технологии, формы, методы и приёмы обучения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Посещать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уроки коллег и участвовать в обмене опытом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Периодически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проводить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самоанализ своей профессиональной деятельности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Совершенствовать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свои знания в области классической и современной психологии и педагогики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Систематически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интересоваться 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событиями современной экономической, политической и культурной жизни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Повышать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 уровень своей эрудиции, правовой и общей культуры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856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rebuchet MS"/>
              </a:rPr>
              <a:t>Виды деятельности, составляющие </a:t>
            </a:r>
            <a:br>
              <a:rPr sz="3600"/>
            </a:br>
            <a:r>
              <a:rPr b="1" lang="ru-RU" sz="3600" spc="-1" strike="noStrike">
                <a:solidFill>
                  <a:srgbClr val="00ffff"/>
                </a:solidFill>
                <a:latin typeface="Trebuchet MS"/>
              </a:rPr>
              <a:t>процесс самообразования:</a:t>
            </a:r>
            <a:endParaRPr b="0" lang="en-US" sz="36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22960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систематический просмотр определённых телепередач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чтение конкретных педагогических периодических изданий, чтение методической, педагогической и предметной литературы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обзор в Интернете информации по преподаваемому предмету, педагогике, психологии, педагогических технологиях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решение задач, упражнений, тестов, кроссвордов и других заданий по своему предмету повышенной сложности или нестандартной формы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посещение семинаров, тренингов, конференций, уроков коллег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дискуссии, совещания, обмен опытом с коллегами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3468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rebuchet MS"/>
              </a:rPr>
              <a:t>Виды деятельности, составляющие процесс самообразования:</a:t>
            </a:r>
            <a:endParaRPr b="0" lang="en-US" sz="36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56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изучение современных психологических методик в процессе интерактивных тренингов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1120" indent="-22464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систематическое прохождение курсов повышения квалификации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1120" indent="-22464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проведение открытых уроков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1120" indent="-22464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организация кружковой и внеклассной деятельности по предмету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1120" indent="-22464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изучение информационно-компьютерных технологий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1120" indent="-22464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посещение предметных выставок и проведение тематических экскурсий по предмету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1120" indent="-22464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общение с коллегами в школе, районе, городе и в Интернете;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1120" indent="-22464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ведение здорового образа жизни, занятия спор­том, физическими упражнениям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0" y="480960"/>
            <a:ext cx="9144000" cy="804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213840" y="100008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ализуется потребность педагога к собственному развитию и саморазвитию.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ладение способами самопознания и самоанализа педагогического опыта как фактора изменения образовательной ситуации.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ется  способностью к рефлексии (под рефлексией понимается деятельность человека, направленная на осмысление собственных действий, своих внутренних чувств, состояний, переживаний, анализ этой деятельности и формулирование выводов), возникает необходимость получения теоретических знаний, необходимость овладения диагностикой — самодиагностикой и диагностикой учащихся, необходимость приобретения практических умений анализа педагогического опыта.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можность исследовательской, поисковой деятельности.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товностью к педагогическому творчеству.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уществляется взаимосвязь личностного и профессионального развития и саморазвития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14360" y="285840"/>
            <a:ext cx="8272440" cy="1287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85840" y="999720"/>
            <a:ext cx="8572320" cy="5715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ышение качества преподавания предмета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анные или изданные методические пособия, статьи, учебники, программы, сценарии, исследования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ка новых форм, методов и приемов обучения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клады, выступления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ка дидактических материалов, тестов, наглядностей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работка методических рекомендаций по применению новой информационной технологии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ка и проведение открытых уроков по собственным, новаторским технологиям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ние комплектов педагогических разработок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едение тренингов, семинаров, конференций , мастер-классов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общение опыта по исследуемой проблеме (теме)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единой методической темы школы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актуальности  и важности темы, ее научно-теоретического и практического значения,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затруднений педагогов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педагогического стажа;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уровня профессиональной компетентности педагога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57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250920" y="306360"/>
            <a:ext cx="966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Тема самообразования определяется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исходя из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Определение результата самообразования</a:t>
            </a:r>
            <a:br>
              <a:rPr sz="3200"/>
            </a:br>
            <a:endParaRPr b="0" lang="en-US" sz="32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85840" y="1428480"/>
            <a:ext cx="8472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ры результатов</a:t>
            </a: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ка новых форм, методов и приемов обучения;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клады, выступления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ка дидактических материалов, тестов, наглядностей;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работка пакета тестового материала в электронном виде.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885080" y="4869000"/>
            <a:ext cx="89064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dec9"/>
                </a:solidFill>
                <a:latin typeface="Arial"/>
              </a:rPr>
              <a:t>«Учитель живет до тех пор, пока учится, как только он перестаёт учиться, в нём умирает учитель"</a:t>
            </a:r>
            <a:endParaRPr b="0" lang="en-US" sz="36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333000"/>
            <a:ext cx="857880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00cc"/>
                </a:solidFill>
                <a:latin typeface="Georgia"/>
              </a:rPr>
              <a:t>«Учитель живёт до тех пор, пока учится, как только он перестает учиться, в нём умирает учитель»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455840" y="4076640"/>
            <a:ext cx="70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192560" y="4384800"/>
            <a:ext cx="53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903840" y="4673520"/>
            <a:ext cx="40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195640" y="465300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344200" y="4091040"/>
            <a:ext cx="31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.Д.Ушин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Варанкина\Мои документы\оформление\dfb121ce78ae.jpg"/>
          <p:cNvPicPr/>
          <p:nvPr/>
        </p:nvPicPr>
        <p:blipFill>
          <a:blip r:embed="rId1"/>
          <a:stretch/>
        </p:blipFill>
        <p:spPr>
          <a:xfrm>
            <a:off x="6500880" y="45720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-168120" y="1558800"/>
            <a:ext cx="834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00"/>
                </a:solidFill>
                <a:latin typeface="Arial Black"/>
              </a:rPr>
              <a:t>Самообразование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Black"/>
              </a:rPr>
              <a:t>осно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Black"/>
              </a:rPr>
              <a:t>успешности учител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endParaRPr b="0" lang="en-US" sz="8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e7dec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ЦЕЛЬ: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выявить влияние самообразования на педагогическое мастерство и профессиональный рост учителей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3716280"/>
            <a:ext cx="90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дачи</a:t>
            </a:r>
            <a:r>
              <a:rPr b="1" lang="ru-RU" sz="1800" spc="-1" strike="noStrike">
                <a:solidFill>
                  <a:srgbClr val="feb80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скрыть теоретические аспекты проблемы развития способности учителя к самоанализу и саморазвитию в процессе организации методической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казать необходимость самообразовательной деятельности  в процессе совершенствования педагогического мастерства 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ыявить факторы, препятствующие саморазвитию и факторы, стимулирующие саморазвитие педаг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анализировать рост профессиональных компетенций учителей школы на основе само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едставить материалы продуктивной самообразовательной деятельности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rebuchet MS"/>
              </a:rPr>
              <a:t>«Учитель – это человек, который учится всю жизнь, только в этом случае он обретает право учить»</a:t>
            </a:r>
            <a:r>
              <a:rPr b="0" lang="ru-RU" sz="3600" spc="-1" strike="noStrike">
                <a:solidFill>
                  <a:srgbClr val="e7dec9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284720" y="4221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.М. Лизинск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080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«Непрерывное образование означает всякого рода сознательные действия, которые взаимно дополняют друг друга и протекают в рамках системы образования, так и за  её пределами в разные периоды жизни; эта деятельность ориентирована на приобретение знаний, развитие всех сторон  и способностей личности, включая умение учиться и подготовку к исполнению разнообразных социальных и профессиональных обязанностей, а также  к участию в социальном развитии,  как в масштабе страны, так и масштабе всего мира»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                 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1984 год, ЮНЕСКО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Учитель 21 века – это:</a:t>
            </a:r>
            <a:br>
              <a:rPr sz="4600"/>
            </a:br>
            <a:endParaRPr b="0" lang="en-US" sz="4600" spc="-1" strike="noStrike">
              <a:solidFill>
                <a:srgbClr val="e7dec9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196640"/>
            <a:ext cx="8831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рмонично развитая, внутренне богатая личность, стремящаяся к духовному, профессиональному, общекультурному и физическому совершенству;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ющий отбирать наиболее эффективные приемы, средства и технологии обучения и воспитания для реализации поставленных задач;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ющий организовать рефлексивную деятельность;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ладающий высокой степенью профессиональной компетентности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500040" y="714240"/>
            <a:ext cx="8286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бразование только тогда считается законченным, когда человек становиться способным к дальнейшему саморазвитию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Дистерве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" descr="C:\Documents and Settings\Варанкина\Мои документы\оформление\1222791401_c4109.jpg"/>
          <p:cNvPicPr/>
          <p:nvPr/>
        </p:nvPicPr>
        <p:blipFill>
          <a:blip r:embed="rId1"/>
          <a:stretch/>
        </p:blipFill>
        <p:spPr>
          <a:xfrm>
            <a:off x="6443640" y="3284640"/>
            <a:ext cx="25002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480960"/>
            <a:ext cx="80708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250920" y="549360"/>
            <a:ext cx="95774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САМООБРАЗОВАНИЕ </a:t>
            </a: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пециально организованная, самодеятельная, системат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знавательная деятельность, направленную на достиж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пределенных личностно и общественно значимых образовате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целей: удовлетвор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знавательных интересов, общекультурных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офессиональных запросов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овышение квалифик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1-08-11T05:58:34Z</dcterms:modified>
  <cp:revision>41</cp:revision>
  <dc:subject/>
  <dc:title>Самообразование-основа успешной работы учителя  </dc:title>
</cp:coreProperties>
</file>